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5.jpeg" ContentType="image/jpeg"/>
  <Override PartName="/ppt/media/image13.png" ContentType="image/png"/>
  <Override PartName="/ppt/media/chimes.wav" ContentType="audio/x-wav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png" ContentType="image/png"/>
  <Override PartName="/ppt/media/image14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C21-13A4-4907-AB81-CC43CEF5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6FD9-B9C3-4E5A-8E80-056CEB90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4B6-7E55-4801-A618-8EFD59D0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017-4648-46EA-AAA3-4F5BCF1B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98C-17DE-46E3-9FE0-76651FB0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6739-D36E-4BC8-A9D0-7D8B54F4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677-E38A-4EEE-B8BD-483F87C6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73D-6D61-461D-A12B-983B5377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0CC-5767-48BA-8904-C96FB21B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CB7-E9B8-44A9-8BF8-3C48F3FD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BBB-5393-4258-8F64-6F386B32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019-E3BC-452F-B6F4-7F54AF2A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75A4-2A71-43FF-8B0C-BC82FCF723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9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2.xml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27000"/>
          <a:ext cx="9144000" cy="6885000"/>
        </p:xfrm>
        <a:graphic>
          <a:graphicData uri="http://schemas.openxmlformats.org/drawingml/2006/table">
            <a:tbl>
              <a:tblPr/>
              <a:tblGrid>
                <a:gridCol w="3419640"/>
                <a:gridCol w="1081080"/>
                <a:gridCol w="1150920"/>
                <a:gridCol w="1152360"/>
                <a:gridCol w="1152720"/>
                <a:gridCol w="1187280"/>
              </a:tblGrid>
              <a:tr h="15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йна в цифра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рои Великой Отечественн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ода-геро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ужие побе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179280" y="115920"/>
            <a:ext cx="878544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30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857160" y="51436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firstslide"/>
          </p:cNvPr>
          <p:cNvSpPr/>
          <p:nvPr/>
        </p:nvSpPr>
        <p:spPr>
          <a:xfrm>
            <a:off x="17928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11330" y="3837"/>
                </a:moveTo>
                <a:lnTo>
                  <a:pt x="13907" y="6448"/>
                </a:ln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lnTo>
                  <a:pt x="18293" y="10800"/>
                </a:lnTo>
                <a:lnTo>
                  <a:pt x="16640" y="10800"/>
                </a:lnTo>
                <a:lnTo>
                  <a:pt x="16640" y="17989"/>
                </a:lnTo>
                <a:lnTo>
                  <a:pt x="6021" y="17989"/>
                </a:lnTo>
                <a:lnTo>
                  <a:pt x="6021" y="10800"/>
                </a:lnTo>
                <a:lnTo>
                  <a:pt x="4367" y="10800"/>
                </a:lnTo>
                <a:close/>
              </a:path>
              <a:path fill="darkenLess" w="22661" h="21600">
                <a:moveTo>
                  <a:pt x="13907" y="6448"/>
                </a:moveTo>
                <a:lnTo>
                  <a:pt x="13907" y="4707"/>
                </a:lnTo>
                <a:lnTo>
                  <a:pt x="15682" y="4707"/>
                </a:lnTo>
                <a:lnTo>
                  <a:pt x="15682" y="8224"/>
                </a:lnTo>
                <a:close/>
              </a:path>
              <a:path fill="darkenLess" w="22661" h="21600">
                <a:moveTo>
                  <a:pt x="10408" y="14299"/>
                </a:moveTo>
                <a:lnTo>
                  <a:pt x="12253" y="14299"/>
                </a:lnTo>
                <a:lnTo>
                  <a:pt x="12253" y="17989"/>
                </a:lnTo>
                <a:lnTo>
                  <a:pt x="16640" y="17989"/>
                </a:lnTo>
                <a:lnTo>
                  <a:pt x="16640" y="10800"/>
                </a:lnTo>
                <a:lnTo>
                  <a:pt x="6021" y="10800"/>
                </a:lnTo>
                <a:lnTo>
                  <a:pt x="6021" y="17989"/>
                </a:lnTo>
                <a:lnTo>
                  <a:pt x="10408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428760" y="1539000"/>
            <a:ext cx="442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Какой подвиг совершил Николай Гастелло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8"/>
          <p:cNvSpPr/>
          <p:nvPr/>
        </p:nvSpPr>
        <p:spPr>
          <a:xfrm>
            <a:off x="2928960" y="4214880"/>
            <a:ext cx="621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ройски погиб, направив свой подбитый самолет в скопление машин и танков против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6000840" y="214200"/>
            <a:ext cx="2679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250920" y="0"/>
            <a:ext cx="8678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40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Кто был Верховным Главнокомандующим Вооруженными Силами СССР в годы Великой Отечественной войны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971640" y="580536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132000" y="5877000"/>
            <a:ext cx="60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.В. Стал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" action="ppaction://hlinkshowjump?jump=firstslide"/>
          </p:cNvPr>
          <p:cNvSpPr/>
          <p:nvPr/>
        </p:nvSpPr>
        <p:spPr>
          <a:xfrm>
            <a:off x="324000" y="5877000"/>
            <a:ext cx="502920" cy="50472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10800" y="3876"/>
                </a:moveTo>
                <a:lnTo>
                  <a:pt x="13376" y="6487"/>
                </a:lnTo>
                <a:lnTo>
                  <a:pt x="13376" y="4746"/>
                </a:lnTo>
                <a:lnTo>
                  <a:pt x="15152" y="4746"/>
                </a:lnTo>
                <a:lnTo>
                  <a:pt x="15152" y="8262"/>
                </a:lnTo>
                <a:lnTo>
                  <a:pt x="17763" y="10839"/>
                </a:lnTo>
                <a:lnTo>
                  <a:pt x="16109" y="10839"/>
                </a:lnTo>
                <a:lnTo>
                  <a:pt x="16109" y="18028"/>
                </a:lnTo>
                <a:lnTo>
                  <a:pt x="5491" y="18028"/>
                </a:lnTo>
                <a:lnTo>
                  <a:pt x="5491" y="10839"/>
                </a:lnTo>
                <a:lnTo>
                  <a:pt x="3837" y="10839"/>
                </a:lnTo>
                <a:close/>
              </a:path>
              <a:path fill="darkenLess" w="21600" h="21677">
                <a:moveTo>
                  <a:pt x="13376" y="6487"/>
                </a:moveTo>
                <a:lnTo>
                  <a:pt x="13376" y="4746"/>
                </a:lnTo>
                <a:lnTo>
                  <a:pt x="15152" y="4746"/>
                </a:lnTo>
                <a:lnTo>
                  <a:pt x="15152" y="8262"/>
                </a:lnTo>
                <a:close/>
              </a:path>
              <a:path fill="darkenLess" w="21600" h="21677">
                <a:moveTo>
                  <a:pt x="9877" y="14338"/>
                </a:moveTo>
                <a:lnTo>
                  <a:pt x="11723" y="14338"/>
                </a:lnTo>
                <a:lnTo>
                  <a:pt x="11723" y="18028"/>
                </a:lnTo>
                <a:lnTo>
                  <a:pt x="16109" y="18028"/>
                </a:lnTo>
                <a:lnTo>
                  <a:pt x="16109" y="10839"/>
                </a:lnTo>
                <a:lnTo>
                  <a:pt x="5491" y="10839"/>
                </a:lnTo>
                <a:lnTo>
                  <a:pt x="5491" y="18028"/>
                </a:lnTo>
                <a:lnTo>
                  <a:pt x="9877" y="18028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324000" y="692280"/>
            <a:ext cx="837396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50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ршалы Советского Союза, участвовавшие в Великой Отечественной вой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приведите в соответствие цифры и бук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Жуков Георгий Константи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Малиновский Родион Яковл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Рокоссовский Константин Константи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) Ворошилов Климент Ефрем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187280" y="5734080"/>
            <a:ext cx="22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>
            <a:hlinkClick r:id="" action="ppaction://hlinkshowjump?jump=firstslide"/>
          </p:cNvPr>
          <p:cNvSpPr/>
          <p:nvPr/>
        </p:nvSpPr>
        <p:spPr>
          <a:xfrm>
            <a:off x="3952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6" descr=""/>
          <p:cNvPicPr/>
          <p:nvPr/>
        </p:nvPicPr>
        <p:blipFill>
          <a:blip r:embed="rId1"/>
          <a:stretch/>
        </p:blipFill>
        <p:spPr>
          <a:xfrm>
            <a:off x="500040" y="328608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"/>
          <p:cNvPicPr/>
          <p:nvPr/>
        </p:nvPicPr>
        <p:blipFill>
          <a:blip r:embed="rId2"/>
          <a:stretch/>
        </p:blipFill>
        <p:spPr>
          <a:xfrm>
            <a:off x="2500200" y="3286080"/>
            <a:ext cx="192888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"/>
          <p:cNvPicPr/>
          <p:nvPr/>
        </p:nvPicPr>
        <p:blipFill>
          <a:blip r:embed="rId3"/>
          <a:stretch/>
        </p:blipFill>
        <p:spPr>
          <a:xfrm>
            <a:off x="4643280" y="3286080"/>
            <a:ext cx="1857600" cy="2214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"/>
          <p:cNvPicPr/>
          <p:nvPr/>
        </p:nvPicPr>
        <p:blipFill>
          <a:blip r:embed="rId4"/>
          <a:stretch/>
        </p:blipFill>
        <p:spPr>
          <a:xfrm>
            <a:off x="6715080" y="3286080"/>
            <a:ext cx="1857600" cy="22147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0"/>
          <p:cNvSpPr/>
          <p:nvPr/>
        </p:nvSpPr>
        <p:spPr>
          <a:xfrm>
            <a:off x="3286080" y="585792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-2, Б-4, В-1, Г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68360" y="3213000"/>
            <a:ext cx="35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2411280" y="321300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2"/>
          <p:cNvSpPr/>
          <p:nvPr/>
        </p:nvSpPr>
        <p:spPr>
          <a:xfrm>
            <a:off x="4575960" y="3284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3"/>
          <p:cNvSpPr/>
          <p:nvPr/>
        </p:nvSpPr>
        <p:spPr>
          <a:xfrm>
            <a:off x="6736680" y="3284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32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10: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Этот советский город фашисты так и не смогли захватить </a:t>
            </a:r>
            <a:br>
              <a:rPr sz="32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403280" y="486900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492360" y="4941720"/>
            <a:ext cx="51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енинг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" action="ppaction://hlinkshowjump?jump=firstslide"/>
          </p:cNvPr>
          <p:cNvSpPr/>
          <p:nvPr/>
        </p:nvSpPr>
        <p:spPr>
          <a:xfrm>
            <a:off x="250920" y="6021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5000760"/>
            <a:ext cx="80010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Моск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>
            <a:hlinkClick r:id="" action="ppaction://hlinkshowjump?jump=firstslide"/>
          </p:cNvPr>
          <p:cNvSpPr/>
          <p:nvPr/>
        </p:nvSpPr>
        <p:spPr>
          <a:xfrm>
            <a:off x="468360" y="5805360"/>
            <a:ext cx="790560" cy="719280"/>
          </a:xfrm>
          <a:custGeom>
            <a:avLst/>
            <a:gdLst>
              <a:gd name="textAreaLeft" fmla="*/ 46440 w 790560"/>
              <a:gd name="textAreaRight" fmla="*/ 744120 w 7905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39" h="21600">
                <a:moveTo>
                  <a:pt x="0" y="0"/>
                </a:moveTo>
                <a:lnTo>
                  <a:pt x="23739" y="0"/>
                </a:lnTo>
                <a:lnTo>
                  <a:pt x="23739" y="21600"/>
                </a:lnTo>
                <a:lnTo>
                  <a:pt x="0" y="21600"/>
                </a:lnTo>
                <a:close/>
              </a:path>
              <a:path fill="lightenLess" w="23739" h="21600">
                <a:moveTo>
                  <a:pt x="0" y="0"/>
                </a:moveTo>
                <a:lnTo>
                  <a:pt x="23739" y="0"/>
                </a:lnTo>
                <a:lnTo>
                  <a:pt x="22339" y="1400"/>
                </a:lnTo>
                <a:lnTo>
                  <a:pt x="1400" y="1400"/>
                </a:lnTo>
                <a:close/>
              </a:path>
              <a:path fill="darken" w="23739" h="21600">
                <a:moveTo>
                  <a:pt x="23739" y="0"/>
                </a:moveTo>
                <a:lnTo>
                  <a:pt x="23739" y="21600"/>
                </a:lnTo>
                <a:lnTo>
                  <a:pt x="22339" y="20200"/>
                </a:lnTo>
                <a:lnTo>
                  <a:pt x="22339" y="1400"/>
                </a:lnTo>
                <a:close/>
              </a:path>
              <a:path fill="darkenLess" w="23739" h="21600">
                <a:moveTo>
                  <a:pt x="23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9" y="20200"/>
                </a:lnTo>
                <a:close/>
              </a:path>
              <a:path fill="lighten" w="23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9" h="21600">
                <a:moveTo>
                  <a:pt x="11870" y="3837"/>
                </a:moveTo>
                <a:lnTo>
                  <a:pt x="14446" y="6448"/>
                </a:lnTo>
                <a:lnTo>
                  <a:pt x="14446" y="4707"/>
                </a:lnTo>
                <a:lnTo>
                  <a:pt x="16222" y="4707"/>
                </a:lnTo>
                <a:lnTo>
                  <a:pt x="16222" y="8224"/>
                </a:lnTo>
                <a:lnTo>
                  <a:pt x="18833" y="10800"/>
                </a:lnTo>
                <a:lnTo>
                  <a:pt x="17179" y="10800"/>
                </a:lnTo>
                <a:lnTo>
                  <a:pt x="17179" y="17989"/>
                </a:lnTo>
                <a:lnTo>
                  <a:pt x="6560" y="17989"/>
                </a:lnTo>
                <a:lnTo>
                  <a:pt x="6560" y="10800"/>
                </a:lnTo>
                <a:lnTo>
                  <a:pt x="4907" y="10800"/>
                </a:lnTo>
                <a:close/>
              </a:path>
              <a:path fill="darkenLess" w="23739" h="21600">
                <a:moveTo>
                  <a:pt x="14446" y="6448"/>
                </a:moveTo>
                <a:lnTo>
                  <a:pt x="14446" y="4707"/>
                </a:lnTo>
                <a:lnTo>
                  <a:pt x="16222" y="4707"/>
                </a:lnTo>
                <a:lnTo>
                  <a:pt x="16222" y="8224"/>
                </a:lnTo>
                <a:close/>
              </a:path>
              <a:path fill="darkenLess" w="23739" h="21600">
                <a:moveTo>
                  <a:pt x="10947" y="14299"/>
                </a:moveTo>
                <a:lnTo>
                  <a:pt x="12792" y="14299"/>
                </a:lnTo>
                <a:lnTo>
                  <a:pt x="12792" y="17989"/>
                </a:lnTo>
                <a:lnTo>
                  <a:pt x="17179" y="17989"/>
                </a:lnTo>
                <a:lnTo>
                  <a:pt x="17179" y="10800"/>
                </a:lnTo>
                <a:lnTo>
                  <a:pt x="6560" y="10800"/>
                </a:lnTo>
                <a:lnTo>
                  <a:pt x="6560" y="17989"/>
                </a:lnTo>
                <a:lnTo>
                  <a:pt x="10947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79280" y="549360"/>
            <a:ext cx="8785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20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 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214200" y="1285920"/>
            <a:ext cx="82868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Arial"/>
              </a:rPr>
              <a:t>После</a:t>
            </a:r>
            <a:r>
              <a:rPr b="1" lang="ru-RU" sz="48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2f2f2"/>
                </a:solidFill>
                <a:latin typeface="Arial"/>
              </a:rPr>
              <a:t>освобождения Орла и Белгорода по приказу И.В. Сталина был произведен первый победный салют</a:t>
            </a: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f2f2f2"/>
                </a:solidFill>
                <a:latin typeface="Arial"/>
              </a:rPr>
              <a:t>В каком городе он был дан?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571320"/>
            <a:ext cx="5607000" cy="38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30:</a:t>
            </a: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Символом и визитной карточкой какого города является одна из самых больших и известных в мире скульптур «Родина-мать»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57120" y="550080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твет: Волгоград (Сталинград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492360" y="6095880"/>
            <a:ext cx="56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>
            <a:hlinkClick r:id="" action="ppaction://hlinkshowjump?jump=firstslide"/>
          </p:cNvPr>
          <p:cNvSpPr/>
          <p:nvPr/>
        </p:nvSpPr>
        <p:spPr>
          <a:xfrm>
            <a:off x="179280" y="623736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13856" y="3837"/>
                </a:moveTo>
                <a:lnTo>
                  <a:pt x="16432" y="6448"/>
                </a:ln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lnTo>
                  <a:pt x="20819" y="10800"/>
                </a:lnTo>
                <a:lnTo>
                  <a:pt x="19165" y="10800"/>
                </a:lnTo>
                <a:lnTo>
                  <a:pt x="19165" y="17989"/>
                </a:lnTo>
                <a:lnTo>
                  <a:pt x="8547" y="17989"/>
                </a:lnTo>
                <a:lnTo>
                  <a:pt x="8547" y="10800"/>
                </a:lnTo>
                <a:lnTo>
                  <a:pt x="6893" y="10800"/>
                </a:lnTo>
                <a:close/>
              </a:path>
              <a:path fill="darkenLess" w="27712" h="21600">
                <a:moveTo>
                  <a:pt x="16432" y="6448"/>
                </a:move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close/>
              </a:path>
              <a:path fill="darkenLess" w="27712" h="21600">
                <a:moveTo>
                  <a:pt x="12933" y="14299"/>
                </a:moveTo>
                <a:lnTo>
                  <a:pt x="14779" y="14299"/>
                </a:lnTo>
                <a:lnTo>
                  <a:pt x="14779" y="17989"/>
                </a:lnTo>
                <a:lnTo>
                  <a:pt x="19165" y="17989"/>
                </a:lnTo>
                <a:lnTo>
                  <a:pt x="19165" y="10800"/>
                </a:lnTo>
                <a:lnTo>
                  <a:pt x="8547" y="10800"/>
                </a:lnTo>
                <a:lnTo>
                  <a:pt x="8547" y="17989"/>
                </a:lnTo>
                <a:lnTo>
                  <a:pt x="12933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948280" y="357120"/>
            <a:ext cx="319572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5052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опрос 40: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тот город называли «вратами Москвы». От исхода битвы за него зависело очень многое. И именно здесь немецкая армия застряла на два месяц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928800" y="578628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молен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857680" y="47862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>
            <a:hlinkClick r:id="" action="ppaction://hlinkshowjump?jump=firstslide"/>
          </p:cNvPr>
          <p:cNvSpPr/>
          <p:nvPr/>
        </p:nvSpPr>
        <p:spPr>
          <a:xfrm>
            <a:off x="250920" y="602136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6612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50: </a:t>
            </a:r>
            <a:br>
              <a:rPr sz="4000"/>
            </a:b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Фашистские войска в 1941–1942 годах потратили на захват этого города 250 дней, а советские освободили его в 1944 году за 5 дней. О каком городе идет речь</a:t>
            </a: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187280" y="544500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059280" y="5516640"/>
            <a:ext cx="56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евастоп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>
            <a:hlinkClick r:id="" action="ppaction://hlinkshowjump?jump=firstslide"/>
          </p:cNvPr>
          <p:cNvSpPr/>
          <p:nvPr/>
        </p:nvSpPr>
        <p:spPr>
          <a:xfrm>
            <a:off x="395280" y="602136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11994" y="3837"/>
                </a:moveTo>
                <a:lnTo>
                  <a:pt x="14570" y="6448"/>
                </a:ln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lnTo>
                  <a:pt x="18957" y="10800"/>
                </a:lnTo>
                <a:lnTo>
                  <a:pt x="17303" y="10800"/>
                </a:lnTo>
                <a:lnTo>
                  <a:pt x="17303" y="17989"/>
                </a:lnTo>
                <a:lnTo>
                  <a:pt x="6685" y="17989"/>
                </a:lnTo>
                <a:lnTo>
                  <a:pt x="6685" y="10800"/>
                </a:lnTo>
                <a:lnTo>
                  <a:pt x="5031" y="10800"/>
                </a:lnTo>
                <a:close/>
              </a:path>
              <a:path fill="darkenLess" w="23988" h="21600">
                <a:moveTo>
                  <a:pt x="14570" y="6448"/>
                </a:move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close/>
              </a:path>
              <a:path fill="darkenLess" w="23988" h="21600">
                <a:moveTo>
                  <a:pt x="11071" y="14299"/>
                </a:moveTo>
                <a:lnTo>
                  <a:pt x="12917" y="14299"/>
                </a:lnTo>
                <a:lnTo>
                  <a:pt x="12917" y="17989"/>
                </a:lnTo>
                <a:lnTo>
                  <a:pt x="17303" y="17989"/>
                </a:lnTo>
                <a:lnTo>
                  <a:pt x="17303" y="10800"/>
                </a:lnTo>
                <a:lnTo>
                  <a:pt x="6685" y="10800"/>
                </a:lnTo>
                <a:lnTo>
                  <a:pt x="6685" y="17989"/>
                </a:lnTo>
                <a:lnTo>
                  <a:pt x="11071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5840" y="260280"/>
            <a:ext cx="88581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опрос 10: </a:t>
            </a:r>
            <a:br>
              <a:rPr sz="36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называлась реактивная система, находившаяся во время войны на вооружении артиллерии Советской арм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43000" y="550080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348000" y="5425920"/>
            <a:ext cx="56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тю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>
            <a:hlinkClick r:id="" action="ppaction://hlinkshowjump?jump=firstslide"/>
          </p:cNvPr>
          <p:cNvSpPr/>
          <p:nvPr/>
        </p:nvSpPr>
        <p:spPr>
          <a:xfrm>
            <a:off x="250920" y="6237360"/>
            <a:ext cx="649080" cy="620640"/>
          </a:xfrm>
          <a:custGeom>
            <a:avLst/>
            <a:gdLst>
              <a:gd name="textAreaLeft" fmla="*/ 39960 w 649080"/>
              <a:gd name="textAreaRight" fmla="*/ 609120 w 6490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89" h="21600">
                <a:moveTo>
                  <a:pt x="0" y="0"/>
                </a:moveTo>
                <a:lnTo>
                  <a:pt x="22589" y="0"/>
                </a:lnTo>
                <a:lnTo>
                  <a:pt x="22589" y="21600"/>
                </a:lnTo>
                <a:lnTo>
                  <a:pt x="0" y="21600"/>
                </a:lnTo>
                <a:close/>
              </a:path>
              <a:path fill="lightenLess" w="22589" h="21600">
                <a:moveTo>
                  <a:pt x="0" y="0"/>
                </a:moveTo>
                <a:lnTo>
                  <a:pt x="22589" y="0"/>
                </a:lnTo>
                <a:lnTo>
                  <a:pt x="21189" y="1400"/>
                </a:lnTo>
                <a:lnTo>
                  <a:pt x="1400" y="1400"/>
                </a:lnTo>
                <a:close/>
              </a:path>
              <a:path fill="darken" w="22589" h="21600">
                <a:moveTo>
                  <a:pt x="22589" y="0"/>
                </a:moveTo>
                <a:lnTo>
                  <a:pt x="22589" y="21600"/>
                </a:lnTo>
                <a:lnTo>
                  <a:pt x="21189" y="20200"/>
                </a:lnTo>
                <a:lnTo>
                  <a:pt x="21189" y="1400"/>
                </a:lnTo>
                <a:close/>
              </a:path>
              <a:path fill="darkenLess" w="22589" h="21600">
                <a:moveTo>
                  <a:pt x="225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9" y="20200"/>
                </a:lnTo>
                <a:close/>
              </a:path>
              <a:path fill="lighten" w="225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9" h="21600">
                <a:moveTo>
                  <a:pt x="11295" y="3837"/>
                </a:moveTo>
                <a:lnTo>
                  <a:pt x="13871" y="6448"/>
                </a:lnTo>
                <a:lnTo>
                  <a:pt x="13871" y="4707"/>
                </a:lnTo>
                <a:lnTo>
                  <a:pt x="15646" y="4707"/>
                </a:lnTo>
                <a:lnTo>
                  <a:pt x="15646" y="8224"/>
                </a:lnTo>
                <a:lnTo>
                  <a:pt x="18258" y="10800"/>
                </a:lnTo>
                <a:lnTo>
                  <a:pt x="16604" y="10800"/>
                </a:lnTo>
                <a:lnTo>
                  <a:pt x="16604" y="17989"/>
                </a:lnTo>
                <a:lnTo>
                  <a:pt x="5985" y="17989"/>
                </a:lnTo>
                <a:lnTo>
                  <a:pt x="5985" y="10800"/>
                </a:lnTo>
                <a:lnTo>
                  <a:pt x="4332" y="10800"/>
                </a:lnTo>
                <a:close/>
              </a:path>
              <a:path fill="darkenLess" w="22589" h="21600">
                <a:moveTo>
                  <a:pt x="13871" y="6448"/>
                </a:moveTo>
                <a:lnTo>
                  <a:pt x="13871" y="4707"/>
                </a:lnTo>
                <a:lnTo>
                  <a:pt x="15646" y="4707"/>
                </a:lnTo>
                <a:lnTo>
                  <a:pt x="15646" y="8224"/>
                </a:lnTo>
                <a:close/>
              </a:path>
              <a:path fill="darkenLess" w="22589" h="21600">
                <a:moveTo>
                  <a:pt x="10372" y="14299"/>
                </a:moveTo>
                <a:lnTo>
                  <a:pt x="12217" y="14299"/>
                </a:lnTo>
                <a:lnTo>
                  <a:pt x="12217" y="17989"/>
                </a:lnTo>
                <a:lnTo>
                  <a:pt x="16604" y="17989"/>
                </a:lnTo>
                <a:lnTo>
                  <a:pt x="16604" y="10800"/>
                </a:lnTo>
                <a:lnTo>
                  <a:pt x="5985" y="10800"/>
                </a:lnTo>
                <a:lnTo>
                  <a:pt x="5985" y="17989"/>
                </a:lnTo>
                <a:lnTo>
                  <a:pt x="10372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1095480" y="21420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78688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20: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е оружие войны называлось «максим»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71720" y="535788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286080" y="5286240"/>
            <a:ext cx="56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анковый пулем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firstslide"/>
          </p:cNvPr>
          <p:cNvSpPr/>
          <p:nvPr/>
        </p:nvSpPr>
        <p:spPr>
          <a:xfrm>
            <a:off x="324000" y="6093000"/>
            <a:ext cx="647640" cy="6490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1600" h="21648">
                <a:moveTo>
                  <a:pt x="0" y="0"/>
                </a:moveTo>
                <a:lnTo>
                  <a:pt x="21600" y="0"/>
                </a:lnTo>
                <a:lnTo>
                  <a:pt x="21600" y="21648"/>
                </a:lnTo>
                <a:lnTo>
                  <a:pt x="0" y="21648"/>
                </a:lnTo>
                <a:close/>
              </a:path>
              <a:path fill="lightenLess" w="21600" h="216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8">
                <a:moveTo>
                  <a:pt x="21600" y="0"/>
                </a:moveTo>
                <a:lnTo>
                  <a:pt x="21600" y="21648"/>
                </a:lnTo>
                <a:lnTo>
                  <a:pt x="20200" y="20248"/>
                </a:lnTo>
                <a:lnTo>
                  <a:pt x="20200" y="1400"/>
                </a:lnTo>
                <a:close/>
              </a:path>
              <a:path fill="darkenLess" w="21600" h="21648">
                <a:moveTo>
                  <a:pt x="21600" y="21648"/>
                </a:moveTo>
                <a:lnTo>
                  <a:pt x="0" y="21648"/>
                </a:lnTo>
                <a:lnTo>
                  <a:pt x="1400" y="20248"/>
                </a:lnTo>
                <a:lnTo>
                  <a:pt x="20200" y="20248"/>
                </a:lnTo>
                <a:close/>
              </a:path>
              <a:path fill="lighten" w="21600" h="21648">
                <a:moveTo>
                  <a:pt x="0" y="216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8"/>
                </a:lnTo>
                <a:close/>
              </a:path>
              <a:path fill="darken" w="21600" h="21648">
                <a:moveTo>
                  <a:pt x="10800" y="3861"/>
                </a:moveTo>
                <a:lnTo>
                  <a:pt x="13376" y="6472"/>
                </a:ln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lnTo>
                  <a:pt x="17763" y="10824"/>
                </a:lnTo>
                <a:lnTo>
                  <a:pt x="16109" y="10824"/>
                </a:lnTo>
                <a:lnTo>
                  <a:pt x="16109" y="18013"/>
                </a:lnTo>
                <a:lnTo>
                  <a:pt x="5491" y="18013"/>
                </a:lnTo>
                <a:lnTo>
                  <a:pt x="5491" y="10824"/>
                </a:lnTo>
                <a:lnTo>
                  <a:pt x="3837" y="10824"/>
                </a:lnTo>
                <a:close/>
              </a:path>
              <a:path fill="darkenLess" w="21600" h="21648">
                <a:moveTo>
                  <a:pt x="13376" y="6472"/>
                </a:moveTo>
                <a:lnTo>
                  <a:pt x="13376" y="4731"/>
                </a:lnTo>
                <a:lnTo>
                  <a:pt x="15152" y="4731"/>
                </a:lnTo>
                <a:lnTo>
                  <a:pt x="15152" y="8248"/>
                </a:lnTo>
                <a:close/>
              </a:path>
              <a:path fill="darkenLess" w="21600" h="21648">
                <a:moveTo>
                  <a:pt x="9877" y="14323"/>
                </a:moveTo>
                <a:lnTo>
                  <a:pt x="11723" y="14323"/>
                </a:lnTo>
                <a:lnTo>
                  <a:pt x="11723" y="18013"/>
                </a:lnTo>
                <a:lnTo>
                  <a:pt x="16109" y="18013"/>
                </a:lnTo>
                <a:lnTo>
                  <a:pt x="16109" y="10824"/>
                </a:lnTo>
                <a:lnTo>
                  <a:pt x="5491" y="10824"/>
                </a:lnTo>
                <a:lnTo>
                  <a:pt x="5491" y="18013"/>
                </a:lnTo>
                <a:lnTo>
                  <a:pt x="9877" y="18013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000080" y="0"/>
            <a:ext cx="70722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9997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Великая Отечественная вой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1941-194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30: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звание какого знаменитого оружия расшифровывалось «Тульский. Токарев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00080" y="585792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857680" y="5952960"/>
            <a:ext cx="56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истолет Т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>
            <a:hlinkClick r:id="" action="ppaction://hlinkshowjump?jump=firstslide"/>
          </p:cNvPr>
          <p:cNvSpPr/>
          <p:nvPr/>
        </p:nvSpPr>
        <p:spPr>
          <a:xfrm>
            <a:off x="108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285920" y="309600"/>
            <a:ext cx="784368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9298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40:</a:t>
            </a:r>
            <a:br>
              <a:rPr sz="4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мейство тяжелых танков ИС-1, ИС-2, ИС-3. Это самые мощные танки Второй Мировой войны. Как расшифровываются буквы «ИС»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143000" y="564372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143160" y="5715000"/>
            <a:ext cx="56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Иосиф Стали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>
            <a:hlinkClick r:id="" action="ppaction://hlinkshowjump?jump=firstslide"/>
          </p:cNvPr>
          <p:cNvSpPr/>
          <p:nvPr/>
        </p:nvSpPr>
        <p:spPr>
          <a:xfrm>
            <a:off x="108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4214880" y="2874960"/>
            <a:ext cx="4010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опрос 50: </a:t>
            </a:r>
            <a:br>
              <a:rPr sz="32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отечественный средний танк был признан лучшим в годы Великой Отечественной войн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928800" y="564372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28960" y="5715000"/>
            <a:ext cx="56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-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>
            <a:hlinkClick r:id="" action="ppaction://hlinkshowjump?jump=firstslide"/>
          </p:cNvPr>
          <p:cNvSpPr/>
          <p:nvPr/>
        </p:nvSpPr>
        <p:spPr>
          <a:xfrm>
            <a:off x="179280" y="5877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12332" y="3837"/>
                </a:moveTo>
                <a:lnTo>
                  <a:pt x="14908" y="6448"/>
                </a:ln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lnTo>
                  <a:pt x="19295" y="10800"/>
                </a:lnTo>
                <a:lnTo>
                  <a:pt x="17641" y="10800"/>
                </a:lnTo>
                <a:lnTo>
                  <a:pt x="17641" y="17989"/>
                </a:lnTo>
                <a:lnTo>
                  <a:pt x="7023" y="17989"/>
                </a:lnTo>
                <a:lnTo>
                  <a:pt x="7023" y="10800"/>
                </a:lnTo>
                <a:lnTo>
                  <a:pt x="5369" y="10800"/>
                </a:lnTo>
                <a:close/>
              </a:path>
              <a:path fill="darkenLess" w="24664" h="21600">
                <a:moveTo>
                  <a:pt x="14908" y="6448"/>
                </a:moveTo>
                <a:lnTo>
                  <a:pt x="14908" y="4707"/>
                </a:lnTo>
                <a:lnTo>
                  <a:pt x="16684" y="4707"/>
                </a:lnTo>
                <a:lnTo>
                  <a:pt x="16684" y="8224"/>
                </a:lnTo>
                <a:close/>
              </a:path>
              <a:path fill="darkenLess" w="24664" h="21600">
                <a:moveTo>
                  <a:pt x="11409" y="14299"/>
                </a:moveTo>
                <a:lnTo>
                  <a:pt x="13254" y="14299"/>
                </a:lnTo>
                <a:lnTo>
                  <a:pt x="13254" y="17989"/>
                </a:lnTo>
                <a:lnTo>
                  <a:pt x="17641" y="17989"/>
                </a:lnTo>
                <a:lnTo>
                  <a:pt x="17641" y="10800"/>
                </a:lnTo>
                <a:lnTo>
                  <a:pt x="7023" y="10800"/>
                </a:lnTo>
                <a:lnTo>
                  <a:pt x="7023" y="17989"/>
                </a:lnTo>
                <a:lnTo>
                  <a:pt x="11409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3786120" y="2643120"/>
            <a:ext cx="4714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3880" y="-357480"/>
            <a:ext cx="80010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10: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Сколько городов нашей родины удостоены звания города-героя</a:t>
            </a: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476360" y="573408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635280" y="587700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>
            <a:hlinkClick r:id="" action="ppaction://hlinkshowjump?jump=firstslide"/>
          </p:cNvPr>
          <p:cNvSpPr/>
          <p:nvPr/>
        </p:nvSpPr>
        <p:spPr>
          <a:xfrm>
            <a:off x="0" y="6021360"/>
            <a:ext cx="684360" cy="64764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5" y="14299"/>
                </a:lnTo>
                <a:lnTo>
                  <a:pt x="12335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680" y="189000"/>
            <a:ext cx="8053200" cy="25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20: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Сколько советских людей погибло в войне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979640" y="486900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Ответ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995640" y="494172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7 милли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>
            <a:hlinkClick r:id="" action="ppaction://hlinkshowjump?jump=firstslide"/>
          </p:cNvPr>
          <p:cNvSpPr/>
          <p:nvPr/>
        </p:nvSpPr>
        <p:spPr>
          <a:xfrm>
            <a:off x="0" y="609300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4296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30: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колько длилась блокада Ленинграда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476360" y="393372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84360" y="580536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Отве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>
            <a:hlinkClick r:id="" action="ppaction://hlinkshowjump?jump=firstslide"/>
          </p:cNvPr>
          <p:cNvSpPr/>
          <p:nvPr/>
        </p:nvSpPr>
        <p:spPr>
          <a:xfrm>
            <a:off x="0" y="6093000"/>
            <a:ext cx="611280" cy="576000"/>
          </a:xfrm>
          <a:custGeom>
            <a:avLst/>
            <a:gdLst>
              <a:gd name="textAreaLeft" fmla="*/ 37080 w 611280"/>
              <a:gd name="textAreaRight" fmla="*/ 574200 w 611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22" h="21600">
                <a:moveTo>
                  <a:pt x="0" y="0"/>
                </a:moveTo>
                <a:lnTo>
                  <a:pt x="22922" y="0"/>
                </a:lnTo>
                <a:lnTo>
                  <a:pt x="22922" y="21600"/>
                </a:lnTo>
                <a:lnTo>
                  <a:pt x="0" y="21600"/>
                </a:lnTo>
                <a:close/>
              </a:path>
              <a:path fill="lightenLess" w="22922" h="21600">
                <a:moveTo>
                  <a:pt x="0" y="0"/>
                </a:moveTo>
                <a:lnTo>
                  <a:pt x="22922" y="0"/>
                </a:lnTo>
                <a:lnTo>
                  <a:pt x="21522" y="1400"/>
                </a:lnTo>
                <a:lnTo>
                  <a:pt x="1400" y="1400"/>
                </a:lnTo>
                <a:close/>
              </a:path>
              <a:path fill="darken" w="22922" h="21600">
                <a:moveTo>
                  <a:pt x="22922" y="0"/>
                </a:moveTo>
                <a:lnTo>
                  <a:pt x="22922" y="21600"/>
                </a:lnTo>
                <a:lnTo>
                  <a:pt x="21522" y="20200"/>
                </a:lnTo>
                <a:lnTo>
                  <a:pt x="21522" y="1400"/>
                </a:lnTo>
                <a:close/>
              </a:path>
              <a:path fill="darkenLess" w="22922" h="21600">
                <a:moveTo>
                  <a:pt x="22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2" y="20200"/>
                </a:lnTo>
                <a:close/>
              </a:path>
              <a:path fill="lighten" w="22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2" h="21600">
                <a:moveTo>
                  <a:pt x="11461" y="3837"/>
                </a:moveTo>
                <a:lnTo>
                  <a:pt x="14037" y="6448"/>
                </a:lnTo>
                <a:lnTo>
                  <a:pt x="14037" y="4707"/>
                </a:lnTo>
                <a:lnTo>
                  <a:pt x="15813" y="4707"/>
                </a:lnTo>
                <a:lnTo>
                  <a:pt x="15813" y="8224"/>
                </a:lnTo>
                <a:lnTo>
                  <a:pt x="18424" y="10800"/>
                </a:lnTo>
                <a:lnTo>
                  <a:pt x="16770" y="10800"/>
                </a:lnTo>
                <a:lnTo>
                  <a:pt x="16770" y="17989"/>
                </a:lnTo>
                <a:lnTo>
                  <a:pt x="6152" y="17989"/>
                </a:lnTo>
                <a:lnTo>
                  <a:pt x="6152" y="10800"/>
                </a:lnTo>
                <a:lnTo>
                  <a:pt x="4498" y="10800"/>
                </a:lnTo>
                <a:close/>
              </a:path>
              <a:path fill="darkenLess" w="22922" h="21600">
                <a:moveTo>
                  <a:pt x="14037" y="6448"/>
                </a:moveTo>
                <a:lnTo>
                  <a:pt x="14037" y="4707"/>
                </a:lnTo>
                <a:lnTo>
                  <a:pt x="15813" y="4707"/>
                </a:lnTo>
                <a:lnTo>
                  <a:pt x="15813" y="8224"/>
                </a:lnTo>
                <a:close/>
              </a:path>
              <a:path fill="darkenLess" w="22922" h="21600">
                <a:moveTo>
                  <a:pt x="10538" y="14299"/>
                </a:moveTo>
                <a:lnTo>
                  <a:pt x="12384" y="14299"/>
                </a:lnTo>
                <a:lnTo>
                  <a:pt x="12384" y="17989"/>
                </a:lnTo>
                <a:lnTo>
                  <a:pt x="16770" y="17989"/>
                </a:lnTo>
                <a:lnTo>
                  <a:pt x="16770" y="10800"/>
                </a:lnTo>
                <a:lnTo>
                  <a:pt x="6152" y="10800"/>
                </a:lnTo>
                <a:lnTo>
                  <a:pt x="6152" y="17989"/>
                </a:lnTo>
                <a:lnTo>
                  <a:pt x="10538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916360" y="5805360"/>
            <a:ext cx="60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059280" y="5734080"/>
            <a:ext cx="56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900 дн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1928880" y="1857240"/>
            <a:ext cx="53816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50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85690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40: </a:t>
            </a:r>
            <a:br>
              <a:rPr sz="4000"/>
            </a:b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Сколько длилась Великая Отечественная война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14280" y="537372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Ответ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418 дней и ночей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>
            <a:hlinkClick r:id="" action="ppaction://hlinkshowjump?jump=firstslide"/>
          </p:cNvPr>
          <p:cNvSpPr/>
          <p:nvPr/>
        </p:nvSpPr>
        <p:spPr>
          <a:xfrm>
            <a:off x="39528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3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826920" y="580536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Ответ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00360" y="5877000"/>
            <a:ext cx="64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коло меся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>
            <a:hlinkClick r:id="" action="ppaction://hlinkshowjump?jump=firstslide"/>
          </p:cNvPr>
          <p:cNvSpPr/>
          <p:nvPr/>
        </p:nvSpPr>
        <p:spPr>
          <a:xfrm>
            <a:off x="179280" y="595008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3837"/>
                </a:moveTo>
                <a:lnTo>
                  <a:pt x="13415" y="6448"/>
                </a:ln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lnTo>
                  <a:pt x="17802" y="10800"/>
                </a:lnTo>
                <a:lnTo>
                  <a:pt x="16148" y="10800"/>
                </a:lnTo>
                <a:lnTo>
                  <a:pt x="16148" y="17989"/>
                </a:lnTo>
                <a:lnTo>
                  <a:pt x="5529" y="17989"/>
                </a:lnTo>
                <a:lnTo>
                  <a:pt x="5529" y="10800"/>
                </a:lnTo>
                <a:lnTo>
                  <a:pt x="3876" y="10800"/>
                </a:lnTo>
                <a:close/>
              </a:path>
              <a:path fill="darkenLess" w="21677" h="21600">
                <a:moveTo>
                  <a:pt x="13415" y="6448"/>
                </a:move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close/>
              </a:path>
              <a:path fill="darkenLess" w="21677" h="21600">
                <a:moveTo>
                  <a:pt x="9916" y="14299"/>
                </a:moveTo>
                <a:lnTo>
                  <a:pt x="11761" y="14299"/>
                </a:lnTo>
                <a:lnTo>
                  <a:pt x="11761" y="17989"/>
                </a:lnTo>
                <a:lnTo>
                  <a:pt x="16148" y="17989"/>
                </a:lnTo>
                <a:lnTo>
                  <a:pt x="16148" y="10800"/>
                </a:lnTo>
                <a:lnTo>
                  <a:pt x="5529" y="10800"/>
                </a:lnTo>
                <a:lnTo>
                  <a:pt x="5529" y="17989"/>
                </a:lnTo>
                <a:lnTo>
                  <a:pt x="9916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571680" y="0"/>
            <a:ext cx="8572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50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Сколько времени продолжалась героическая оборона Брестской крепост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1785960" y="2571840"/>
            <a:ext cx="6200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5676840" cy="33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10:</a:t>
            </a:r>
            <a:br>
              <a:rPr sz="4000"/>
            </a:br>
            <a:r>
              <a:rPr b="0" lang="ru-RU" sz="4000" spc="-1" strike="noStrike">
                <a:solidFill>
                  <a:srgbClr val="f2f2f2"/>
                </a:solidFill>
                <a:latin typeface="Arial"/>
              </a:rPr>
              <a:t>Подвиг какого советского летчика отражён в книге Бориса Полевого «Повесть о настоящем человеке»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900000" y="535788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Ответ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03640" y="5429160"/>
            <a:ext cx="565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лексея Маресь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>
            <a:hlinkClick r:id="" action="ppaction://hlinkshowjump?jump=firstslide"/>
          </p:cNvPr>
          <p:cNvSpPr/>
          <p:nvPr/>
        </p:nvSpPr>
        <p:spPr>
          <a:xfrm>
            <a:off x="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11788" y="3837"/>
                </a:moveTo>
                <a:lnTo>
                  <a:pt x="14364" y="6448"/>
                </a:lnTo>
                <a:lnTo>
                  <a:pt x="14364" y="4707"/>
                </a:lnTo>
                <a:lnTo>
                  <a:pt x="16140" y="4707"/>
                </a:lnTo>
                <a:lnTo>
                  <a:pt x="16140" y="8224"/>
                </a:lnTo>
                <a:lnTo>
                  <a:pt x="18751" y="10800"/>
                </a:lnTo>
                <a:lnTo>
                  <a:pt x="17097" y="10800"/>
                </a:lnTo>
                <a:lnTo>
                  <a:pt x="17097" y="17989"/>
                </a:lnTo>
                <a:lnTo>
                  <a:pt x="6479" y="17989"/>
                </a:lnTo>
                <a:lnTo>
                  <a:pt x="6479" y="10800"/>
                </a:lnTo>
                <a:lnTo>
                  <a:pt x="4825" y="10800"/>
                </a:lnTo>
                <a:close/>
              </a:path>
              <a:path fill="darkenLess" w="23576" h="21600">
                <a:moveTo>
                  <a:pt x="14364" y="6448"/>
                </a:moveTo>
                <a:lnTo>
                  <a:pt x="14364" y="4707"/>
                </a:lnTo>
                <a:lnTo>
                  <a:pt x="16140" y="4707"/>
                </a:lnTo>
                <a:lnTo>
                  <a:pt x="16140" y="8224"/>
                </a:lnTo>
                <a:close/>
              </a:path>
              <a:path fill="darkenLess" w="23576" h="21600">
                <a:moveTo>
                  <a:pt x="10865" y="14299"/>
                </a:moveTo>
                <a:lnTo>
                  <a:pt x="12711" y="14299"/>
                </a:lnTo>
                <a:lnTo>
                  <a:pt x="12711" y="17989"/>
                </a:lnTo>
                <a:lnTo>
                  <a:pt x="17097" y="17989"/>
                </a:lnTo>
                <a:lnTo>
                  <a:pt x="17097" y="10800"/>
                </a:lnTo>
                <a:lnTo>
                  <a:pt x="6479" y="10800"/>
                </a:lnTo>
                <a:lnTo>
                  <a:pt x="6479" y="17989"/>
                </a:lnTo>
                <a:lnTo>
                  <a:pt x="10865" y="17989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6000840" y="142920"/>
            <a:ext cx="29718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7280" y="713880"/>
            <a:ext cx="585648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прос 20:</a:t>
            </a:r>
            <a:br>
              <a:rPr sz="3600"/>
            </a:b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Какой подвиг в годы войны совершил Александр Матросов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>
            <a:hlinkClick r:id="" action="ppaction://hlinkshowjump?jump=firstslide"/>
          </p:cNvPr>
          <p:cNvSpPr/>
          <p:nvPr/>
        </p:nvSpPr>
        <p:spPr>
          <a:xfrm>
            <a:off x="17928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4508640"/>
            <a:ext cx="914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акрыл груд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мбразуру вражеского дзот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843280" y="4437000"/>
            <a:ext cx="5976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6" descr=""/>
          <p:cNvPicPr/>
          <p:nvPr/>
        </p:nvPicPr>
        <p:blipFill>
          <a:blip r:embed="rId1"/>
          <a:stretch/>
        </p:blipFill>
        <p:spPr>
          <a:xfrm>
            <a:off x="6286680" y="500040"/>
            <a:ext cx="25938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36:34Z</dcterms:created>
  <dc:creator>1</dc:creator>
  <dc:description/>
  <dc:language>en-US</dc:language>
  <cp:lastModifiedBy>psycholog</cp:lastModifiedBy>
  <dcterms:modified xsi:type="dcterms:W3CDTF">2018-02-19T08:46:59Z</dcterms:modified>
  <cp:revision>158</cp:revision>
  <dc:subject/>
  <dc:title>Своя игра</dc:title>
</cp:coreProperties>
</file>